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70EF-4F7B-4739-90AF-229D85D63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uring these sessions CAMPPPers, you will be introduced to some simple techniques to facilitate focused conversations with critical friends.  You will have the opportunity to practice these techniques wh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reflecting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on your experiences to date and on your personal goals for attending CAMP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electing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an area of personal inquiry, aligning in a 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group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ith colleagues who share similar goals, and collaboratively developing a personalized product that will be valuable to you this coming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Connecting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the four pillars of CAMPPP (Questioning to Differentiate Instruction, Big Ideas, Important Mathematics, or Student Struggles) with the personal product you're working towards through focused conversations with critical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7A9-474B-4FDB-A79E-6926019C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9B6-5095-477D-AF29-8A7578DF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668-2DBD-4252-90B8-B52BEB66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BF1-35E8-4A8B-AD2B-55D9D74D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9CE4-6117-47DC-B470-F4C422EB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6F4D-0A81-4992-9348-B5238AC4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9D6E-8227-4B7A-A9AA-885AAFA6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616D-C496-40E0-8CDA-9285FBEF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5264-6C6E-4F06-9ABB-5C272325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43E9-8927-443B-B5C8-F860E88A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F524-FED0-44C9-BF8C-8A7AECEA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EEB-972E-4943-AF09-014AF4FB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69B6-27D6-402D-A147-E9ABA49B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593B-E5A6-4E36-A8C8-167CB8F8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619F-8413-434C-923B-0ADB2D13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E5D2-3E8C-4F53-A345-DA3F35DC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2DCB-3F3D-4E12-895C-1AF8A22C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9FB-E9D3-4606-AD5C-395FB3B7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E6A-0E6F-444A-9002-529B45B8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314-A67A-4667-B7A8-1AAAE6BC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BFB-A2D1-4CE1-9774-48F7164E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E6B-02C6-48C8-A8FC-99D2E534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275-CFFB-4A19-9927-0649CB6C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2520-1272-484D-B78B-AAA26FE8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CD45-3FC9-4C8D-9CCA-F01439ED589C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6120" y="512640"/>
            <a:ext cx="7121520" cy="11448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91400" y="4428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5FF7-532A-4C7E-A40F-294CC548F7C7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014560" y="3070080"/>
            <a:ext cx="5113440" cy="233856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97560" y="5391000"/>
            <a:ext cx="3276720" cy="13338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35440" y="1735200"/>
            <a:ext cx="3276360" cy="13334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0040" y="561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    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cused Conversations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</a:t>
            </a:r>
            <a:br>
              <a:rPr sz="2000"/>
            </a:b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with critical friends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15080" y="580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7360" y="5423040"/>
            <a:ext cx="3276720" cy="1333440"/>
          </a:xfrm>
          <a:prstGeom prst="ellipse">
            <a:avLst/>
          </a:prstGeom>
          <a:solidFill>
            <a:srgbClr val="ff4f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6000" y="57895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68520" y="21319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3521160"/>
            <a:ext cx="197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1" lang="en-CA" sz="3200" spc="-1" strike="noStrike">
                <a:solidFill>
                  <a:srgbClr val="33ccff"/>
                </a:solidFill>
                <a:latin typeface="Arial"/>
              </a:rPr>
              <a:t>G</a:t>
            </a:r>
            <a:r>
              <a:rPr b="1" lang="en-CA" sz="3200" spc="-1" strike="noStrike">
                <a:solidFill>
                  <a:srgbClr val="f5e571"/>
                </a:solidFill>
                <a:latin typeface="Arial"/>
              </a:rPr>
              <a:t>A</a:t>
            </a:r>
            <a:r>
              <a:rPr b="1" lang="en-CA" sz="3200" spc="-1" strike="noStrike">
                <a:solidFill>
                  <a:srgbClr val="cc3399"/>
                </a:solidFill>
                <a:latin typeface="Arial"/>
              </a:rPr>
              <a:t>I</a:t>
            </a:r>
            <a:r>
              <a:rPr b="1" lang="en-CA" sz="3200" spc="-1" strike="noStrike">
                <a:solidFill>
                  <a:srgbClr val="99ff99"/>
                </a:solidFill>
                <a:latin typeface="Arial"/>
              </a:rPr>
              <a:t>N</a:t>
            </a:r>
            <a:r>
              <a:rPr b="1" lang="en-CA" sz="3200" spc="-1" strike="noStrike">
                <a:solidFill>
                  <a:srgbClr val="e70308"/>
                </a:solidFill>
                <a:latin typeface="Arial"/>
              </a:rPr>
              <a:t>S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AMP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eel District School Board</cp:lastModifiedBy>
  <dcterms:modified xsi:type="dcterms:W3CDTF">2009-07-24T14:01:10Z</dcterms:modified>
  <cp:revision>99</cp:revision>
  <dc:subject/>
  <dc:title>Slide 1</dc:title>
</cp:coreProperties>
</file>